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1269720" y="6984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HWRFx better than HWRF, especially from two days onward, but not as good as GFD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3594240" y="2184480"/>
            <a:ext cx="5803920" cy="538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1269720" y="711000"/>
            <a:ext cx="10464840" cy="173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In a larger sample (UKM and NGPS removed), HWRFx remains better than HWRF from 84 h onward, but worse than GFD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3594240" y="2184480"/>
            <a:ext cx="5803920" cy="538488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1270080" y="7467480"/>
            <a:ext cx="1046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s sample adds weak cases that UKM and NGPS did not follow.  This means that HWRFx does relatively in track poorly for weak cases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269720" y="304920"/>
            <a:ext cx="10464840" cy="1866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HWRF-x does worse than HWRF and GFDL through 60 h.  All models do about the same after 84 h.  Is this a predictability limit of some sort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3594240" y="2184480"/>
            <a:ext cx="5803920" cy="538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1269720" y="54612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HWRFx has a much larger bias than HWRF and GFDL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3657600" y="2184480"/>
            <a:ext cx="5676840" cy="538488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1270080" y="7823160"/>
            <a:ext cx="1046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s suggests that the similar error statistics by 84 h is coincidence, not a predictability issue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gopal</cp:lastModifiedBy>
  <dcterms:modified xsi:type="dcterms:W3CDTF">2009-09-16T22:21:18Z</dcterms:modified>
  <cp:revision>1</cp:revision>
  <dc:subject/>
  <dc:title>Slide 1</dc:title>
</cp:coreProperties>
</file>